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E66-5964-46C2-8A2E-98C2731F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DD5-C957-4426-B3CA-C50789FE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281-69DE-4745-BD90-B68C03BA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51B-50EB-4F2D-8DC8-BCFA2D9B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CA0-CF3D-4272-8C92-C1290DD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441-1D83-444D-BF9D-7D991AC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3B7-B644-460F-B621-DFC1E4F4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BD5-6900-46D5-85DB-7F30C19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B5E-372D-4D5A-B522-88BFFB68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2D7-94E8-4559-8F6B-C2AE5C4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608-6B86-464A-A029-04DCED8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297-10B6-422E-8F2D-EF4DA08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2CE-5482-44EE-BEFD-C6D9C4BA8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DSC_0380 Яскевич Галина Васильевна kопировать.jpg"/>
          <p:cNvPicPr/>
          <p:nvPr/>
        </p:nvPicPr>
        <p:blipFill>
          <a:blip r:embed="rId1"/>
          <a:stretch/>
        </p:blipFill>
        <p:spPr>
          <a:xfrm>
            <a:off x="571680" y="1025640"/>
            <a:ext cx="3423960" cy="510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21488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к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алина Василье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БОУ «Гимназ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bSIQoZW2zuQ.jpg"/>
          <p:cNvPicPr/>
          <p:nvPr/>
        </p:nvPicPr>
        <p:blipFill>
          <a:blip r:embed="rId1"/>
          <a:stretch/>
        </p:blipFill>
        <p:spPr>
          <a:xfrm>
            <a:off x="776160" y="1600200"/>
            <a:ext cx="34005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тели принимают активное участие в жизни нашего класс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стие в социальных проект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афон «40 добрых де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зеленение территории гимназ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7" descr="дд2.jpg"/>
          <p:cNvPicPr/>
          <p:nvPr/>
        </p:nvPicPr>
        <p:blipFill>
          <a:blip r:embed="rId1"/>
          <a:stretch/>
        </p:blipFill>
        <p:spPr>
          <a:xfrm>
            <a:off x="285840" y="2357280"/>
            <a:ext cx="4211640" cy="3308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2014-06-23 10.47.13.jpg"/>
          <p:cNvPicPr/>
          <p:nvPr/>
        </p:nvPicPr>
        <p:blipFill>
          <a:blip r:embed="rId2"/>
          <a:stretch/>
        </p:blipFill>
        <p:spPr>
          <a:xfrm>
            <a:off x="6072120" y="4143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10" descr="2014-06-23 10.46.03.jpg"/>
          <p:cNvPicPr/>
          <p:nvPr/>
        </p:nvPicPr>
        <p:blipFill>
          <a:blip r:embed="rId3"/>
          <a:stretch/>
        </p:blipFill>
        <p:spPr>
          <a:xfrm>
            <a:off x="4714920" y="2214720"/>
            <a:ext cx="344016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8" descr="DSC_0358.JPG"/>
          <p:cNvPicPr/>
          <p:nvPr/>
        </p:nvPicPr>
        <p:blipFill>
          <a:blip r:embed="rId1"/>
          <a:stretch/>
        </p:blipFill>
        <p:spPr>
          <a:xfrm>
            <a:off x="500040" y="1357200"/>
            <a:ext cx="4470480" cy="3000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– за 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плюшки.jpg"/>
          <p:cNvPicPr/>
          <p:nvPr/>
        </p:nvPicPr>
        <p:blipFill>
          <a:blip r:embed="rId2"/>
          <a:stretch/>
        </p:blipFill>
        <p:spPr>
          <a:xfrm>
            <a:off x="4579920" y="2928960"/>
            <a:ext cx="456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00160"/>
            <a:ext cx="40402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ский сай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3071880"/>
            <a:ext cx="4040280" cy="227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днев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572000" y="2214720"/>
            <a:ext cx="43308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раюсь быть примером для своих ученик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7" descr="DSCN1051.JPG"/>
          <p:cNvPicPr/>
          <p:nvPr/>
        </p:nvPicPr>
        <p:blipFill>
          <a:blip r:embed="rId1"/>
          <a:stretch/>
        </p:blipFill>
        <p:spPr>
          <a:xfrm>
            <a:off x="2000160" y="1643040"/>
            <a:ext cx="5286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ребенке скрыт неизвестный нам потенциал, который  должен обязательно реализов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цель - осторожно и бережно помочь ребенку раскрыться, вселить в него уверенность, дать почувствовать свою самоц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моей педагогической деятель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ние компетентностно-ориентированной, грамотн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пешной  ли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IMG_7589.JPG"/>
          <p:cNvPicPr/>
          <p:nvPr/>
        </p:nvPicPr>
        <p:blipFill>
          <a:blip r:embed="rId1"/>
          <a:stretch/>
        </p:blipFill>
        <p:spPr>
          <a:xfrm>
            <a:off x="4000680" y="1862280"/>
            <a:ext cx="4686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1435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а организации образовательного процесса 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3880" y="2499840"/>
            <a:ext cx="764388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слышу – я забыва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ижу – я запомина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делаю – я усваиваю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тайская мудр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й ученик научи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обывать знания и использовать их  в нестандартных ситуация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работать в команд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презентовать свою деятель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принимать самостоятельные реш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отвечать за свои действ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находить нужную информац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переводить информацию из одной знаковой системы в другу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М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Heru2_kollag.jpg"/>
          <p:cNvPicPr/>
          <p:nvPr/>
        </p:nvPicPr>
        <p:blipFill>
          <a:blip r:embed="rId1"/>
          <a:stretch/>
        </p:blipFill>
        <p:spPr>
          <a:xfrm>
            <a:off x="571680" y="142884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NME6_kollag.jpg"/>
          <p:cNvPicPr/>
          <p:nvPr/>
        </p:nvPicPr>
        <p:blipFill>
          <a:blip r:embed="rId2"/>
          <a:stretch/>
        </p:blipFill>
        <p:spPr>
          <a:xfrm>
            <a:off x="6048360" y="857160"/>
            <a:ext cx="3095640" cy="2863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форвард.jpg"/>
          <p:cNvPicPr/>
          <p:nvPr/>
        </p:nvPicPr>
        <p:blipFill>
          <a:blip r:embed="rId3"/>
          <a:stretch/>
        </p:blipFill>
        <p:spPr>
          <a:xfrm>
            <a:off x="2714760" y="221472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600200"/>
            <a:ext cx="33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гает воспитать желание узнавать новое, активизирует творческое мыш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5" descr="SN856880.JPG"/>
          <p:cNvPicPr/>
          <p:nvPr/>
        </p:nvPicPr>
        <p:blipFill>
          <a:blip r:embed="rId1"/>
          <a:stretch/>
        </p:blipFill>
        <p:spPr>
          <a:xfrm>
            <a:off x="4356000" y="1773360"/>
            <a:ext cx="43308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00040" y="4929120"/>
            <a:ext cx="82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: предметно-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 по англий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можность исследовать, экспериментир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зировать в рамках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обуч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0040" y="1571760"/>
          <a:ext cx="8229600" cy="2662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5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го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нд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качество по г.Лесосиби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я моих уче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ая олимпиада по анг. язы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мпиада по англ. язы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БОУ «Енисейский пед. колледж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ая олимпиада по англ. языку, младшие ш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овой конкурс «Британский бульдо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 среди пятиклассников г.Лесосиби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и ученики с удовольствием участвуют в школьных и городских меро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итва хоров 2 место, гимназия  201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DSCN2719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Школьный этап президентских состязаний, 1 место,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8" descr="eSbLHABQn-s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6:49:10Z</dcterms:created>
  <dc:creator>User</dc:creator>
  <dc:description/>
  <dc:language>en-US</dc:language>
  <cp:lastModifiedBy>Людмила Алексеевна</cp:lastModifiedBy>
  <dcterms:modified xsi:type="dcterms:W3CDTF">2015-01-19T04:35:22Z</dcterms:modified>
  <cp:revision>23</cp:revision>
  <dc:subject/>
  <dc:title>Слайд 1</dc:title>
</cp:coreProperties>
</file>